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4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7.png" ContentType="image/png"/>
  <Override PartName="/ppt/media/image30.wmf" ContentType="image/x-wmf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2.png" ContentType="image/png"/>
  <Override PartName="/ppt/media/image2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6858000" cy="97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003320" y="726840"/>
            <a:ext cx="4851360" cy="363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-36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388440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AE31-F544-4E1D-86EE-DF8731F3AB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CAE-84D8-4A1A-A037-86BBDB774D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ündlich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BF89-DA03-4DA7-81A0-2B60F93FE7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uelle: http://commons.wikimedia.org/wiki/File:Zulassung_zur_Teilnahme_am_Amateurfunkdienst_Klasse_E,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arkiert: Rufzeich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CABB-D65E-41F1-86F7-EB1F67A0C7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heimtipp: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ab, eins der drei Wunschrufzeichen in der offiziellen Rufzeichenliste nachschau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B4F-7A68-4B49-84B8-B413A27458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as kann man auf VHF / UHF so mac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7BB-B6E8-4C18-A5E5-8E27D6BC1C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V München Ost, Nord, Süd,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+ weitere in der Umgebu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.a. OV Vaterstätten, Freising, Dacha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F3A-F6CD-44FD-B619-869A0F72A7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ur Vollständigke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V-Kenner beginnen mit Z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0E67-E4C9-4D3B-B0CC-B3DF7EAAF9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r aktuelle Ausbildungskurs vom DARC Ortsverband München Süd (Charlie 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Weitere) Aktivitäten des OV München-Sü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V-Ab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wcomer Run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ieldday  -&gt; Detai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E407-7602-42BD-9AD7-5EA48AAAE0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unächst Infos z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wcomer Runde, DB0ULR 70 cm, München-Sol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lfe zum Einsti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eihgeräte -&gt; Interes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eitpunkt: ab Mai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.B. Mittwochabends 20:30 Uhr (lok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chtung: CTCSS-Subton 123, 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t einmalig 175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mailadressen? Ankündigung über Vertei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Übersicht günstige Einsteigergerä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aoFeng Mark II GT-3  Paket / Mengenrabatt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amazon.de/Baofeng-Funkger%C3%A4t-ProgrammierKabel-Mikrophon-enthaltend-Orange/dp/B00H43LOV0/ref=pd_sim_ce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bedingt Mark II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Wesentlich bessere Ant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sonst nur HF in Wärme umgewandel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4FE3-4ABA-4093-A06D-5E70D3B77C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aoFeng GT-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bedingt Mark II - Versio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mit wesentlich besserer Ant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sonst nur HF in Wärme umgewandel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inco: bessere Bedie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quelle BaoFe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amazon.de/Baofeng-Funkger%C3%A4t-ProgrammierKabel-Mikrophon-enthaltend-Orange/dp/B00H43LOV0/ref=pd_sim_ce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quelle Alinc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maas-elektronik.com/ALINCO-DJ-500-E-Handfunkgeraet-VHF-UHF.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C9EA-EE70-4C51-9C15-1328A96E43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ielddayinf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ächste Folien: Bilder + Karte mit der Lage von Zorne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06D9-666D-44E9-B94B-0A1D642484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379-7C9A-4143-BB30-A1295CB13C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ARU-Region-1 CW Fieldday: September,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a. 60 QSOs / Stunde ( recht gemütlic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9819-E2DA-4016-9BA9-A765C5718B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ARU-Region-1 CW Fieldday: September,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631-E272-40FA-9189-59A7A7AC82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bildungsfield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orneding liegt leicht außerhalb im Osten, ist aber erreichb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4EC1-3B81-4CDD-9790-A4B9E5BA00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er das Highligh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tragsreihe über „Spielarten“ des Amateurfu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uer von ca. 45 Minu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ngjährige Funkamateure als Ansprechpartner in den unterschiedlichsten Betriebsart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{Von OMs, die seit Jahren darin aktiv s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verschiedenen Ortsverbänden in München.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Ziel: Wie werde ich akt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Termine voraussichtlich zum OV-Abend von C18 / erster steht schon fest (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Nächste Foli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Viel Aufwand -&gt;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imm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EFERENT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-Star / DMR: Ralf, DL2MRB, Holger, DL9HM (ex-DO2Z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MNET: Markus, DL8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TV / DVB-T: ATV-Arbeitsgemeinschaft in München e.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8242-7D68-4BE1-82B8-D51C3AD6D8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rster Vortrag: 12.05. 19 U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mateurfunk-Digitalfunk Netze (D-Star, DMR, Mototrb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rachkommunik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[ n i c h t_ über DV (Digital Voice, auf Kurzwelle) ]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&gt; wäre weiteres The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alf, DL2MRB, Holger, DL9HM (ex-DO2Z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quelle: boger.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E56-12A5-463D-B4A7-DD5589D3CE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re Amateurfunkmesse in Süddeutschland: Ham 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6. – 28. Juni 2015, Neue Messe Friedrichshaf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diesem Jahr mit SDR Academy, falls jemandem GNU Radio etwas sag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0A17-822A-4C48-9A04-55554FD00A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tzt wird es ern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Prüfungssim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nächste Folie gute Vorbereitungszei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05E-E3CC-4554-8836-4D8A64FF74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F358-A0EC-4E39-B3E3-5AC6C1E49F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: Facebook, QRZNOW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nweis zu Kritikb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teilen, während Prüfungsbearbeitung ausfül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nweise zu Kritikb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siehe Fol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3193-CB6D-439D-8857-0DBFD053EE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9C6B-F26C-4E06-B4D9-9125EE620D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as kann man auf VHF / UHF so mac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CFE2-D9CD-4FA0-943E-6D2DF9F78F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kro rechts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C761-4BE7-4A64-A5DA-804CAEAE70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kro links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860-9B6B-4145-80BB-883F0FF801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ündlich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6E7A-44AC-4EA9-9FC6-AA6FB0DACA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ündlich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F5E5-1BBC-4D40-AB89-5ED1105596D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0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4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6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7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8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9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ganisatoris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tzter Termin, ab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2" descr="C:\Users\user\AppData\Local\Microsoft\Windows\Temporary Internet Files\Content.IE5\SLB05ASA\sad_face[1].jpg"/>
          <p:cNvPicPr/>
          <p:nvPr/>
        </p:nvPicPr>
        <p:blipFill>
          <a:blip r:embed="rId1"/>
          <a:stretch/>
        </p:blipFill>
        <p:spPr>
          <a:xfrm>
            <a:off x="4859280" y="2060640"/>
            <a:ext cx="2028960" cy="20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infos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4 Fragen / 1h / Bogen, 25 müssen richtig sein (73 %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stan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mit der Rufzeichenzuteilung gibt es die:</a:t>
            </a:r>
            <a:br>
              <a:rPr sz="2000"/>
            </a:br>
            <a:r>
              <a:rPr b="1" lang="de-DE" sz="2000" spc="-1" strike="noStrike">
                <a:solidFill>
                  <a:srgbClr val="262699"/>
                </a:solidFill>
                <a:latin typeface="Arial"/>
              </a:rPr>
              <a:t>„Zulassung zur Teilnahme am Amateurfunkdiens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en Teil nicht bestan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mündliche Nachprüfung bei ca. 22, 23 Fragen richtig beantwortet, auch u.U. best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falls in dem Teil durchgefallen, ist es nur nötig, d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bestandene Tei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wiederholen. Ab 1 Mo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infos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6237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s Amateurfunkzeugnis (Wikimedia, 2007, Public Domain § 5 Abs.1 Urh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http://upload.wikimedia.org/wikipedia/commons/f/fb/Zulassung_zur_Teilnahme_am_Amateurfunkdienst_Klasse_E%2C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324320"/>
          </a:xfrm>
          <a:prstGeom prst="rect">
            <a:avLst/>
          </a:prstGeom>
          <a:ln w="0">
            <a:noFill/>
          </a:ln>
        </p:spPr>
      </p:pic>
      <p:sp>
        <p:nvSpPr>
          <p:cNvPr id="526" name="Rechteck 6"/>
          <p:cNvSpPr/>
          <p:nvPr/>
        </p:nvSpPr>
        <p:spPr>
          <a:xfrm>
            <a:off x="3348000" y="4869000"/>
            <a:ext cx="1224000" cy="504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Inhaltsplatzhalter 2"/>
          <p:cNvSpPr/>
          <p:nvPr/>
        </p:nvSpPr>
        <p:spPr>
          <a:xfrm>
            <a:off x="687240" y="23493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 Möglichkeit (pss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20602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ufzeichen vorab i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fzeichenlis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achschau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2228b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22228b"/>
                </a:solidFill>
                <a:uFillTx/>
                <a:latin typeface="Arial"/>
              </a:rPr>
              <a:t>http://ans.bundesnetzagentur.de/Amateurf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5962680" cy="4133520"/>
          </a:xfrm>
          <a:prstGeom prst="rect">
            <a:avLst/>
          </a:prstGeom>
          <a:ln w="252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itel 1"/>
          <p:cNvSpPr/>
          <p:nvPr/>
        </p:nvSpPr>
        <p:spPr>
          <a:xfrm>
            <a:off x="685800" y="1554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 sonst no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339640" y="2933280"/>
            <a:ext cx="611820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Prüfungsin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ragsprogramm / Weitere Aktivit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Jetzt wird es er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tprüfung – DARC Ortsverbände (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440" y="1980720"/>
            <a:ext cx="561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C Ortsverbände nahe Mün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2d2db9"/>
                </a:solidFill>
                <a:uFillTx/>
                <a:latin typeface="Arial"/>
              </a:rPr>
              <a:t>http://www.darc.de/distrikte/c/ortsverbaen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sverband München-O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C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sverband München-No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C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sverband München-We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C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sverband München-Sü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C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 Vaterstetten: </a:t>
            </a:r>
            <a:r>
              <a:rPr b="0" lang="de-DE" sz="2000" spc="-1" strike="noStrike" u="sng">
                <a:solidFill>
                  <a:srgbClr val="2d2db9"/>
                </a:solidFill>
                <a:uFillTx/>
                <a:latin typeface="Arial"/>
              </a:rPr>
              <a:t>http://www.ov-c01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 Freising: </a:t>
            </a:r>
            <a:r>
              <a:rPr b="0" lang="de-DE" sz="2000" spc="-1" strike="noStrike" u="sng">
                <a:solidFill>
                  <a:srgbClr val="2d2db9"/>
                </a:solidFill>
                <a:uFillTx/>
                <a:latin typeface="Arial"/>
              </a:rPr>
              <a:t>http://darc.de/c/0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 Dachau: </a:t>
            </a:r>
            <a:r>
              <a:rPr b="0" lang="de-DE" sz="2000" spc="-1" strike="noStrike" u="sng">
                <a:solidFill>
                  <a:srgbClr val="2d2db9"/>
                </a:solidFill>
                <a:uFillTx/>
                <a:latin typeface="Arial"/>
              </a:rPr>
              <a:t>http://darc.de/c/0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6" descr="http://www.darc.de/uploads/media/DARC-Logo_Farbe.jpg"/>
          <p:cNvPicPr/>
          <p:nvPr/>
        </p:nvPicPr>
        <p:blipFill>
          <a:blip r:embed="rId1"/>
          <a:stretch/>
        </p:blipFill>
        <p:spPr>
          <a:xfrm>
            <a:off x="5979960" y="2997360"/>
            <a:ext cx="276876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tprüfung – VFDB Ortsverbä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1980720"/>
            <a:ext cx="561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fDB e.V. -- Verband der Funkamateure in Telekommunikation und Post e.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operativ an den DARC angeschlo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2500 Mitglieder, ehemaligen Deutschen Bundespost und weit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ün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1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nsbu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1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gsbu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Informationen: </a:t>
            </a:r>
            <a:r>
              <a:rPr b="0" lang="de-DE" sz="2000" spc="-1" strike="noStrike" u="sng">
                <a:solidFill>
                  <a:srgbClr val="2d2db9"/>
                </a:solidFill>
                <a:uFillTx/>
                <a:latin typeface="Arial"/>
              </a:rPr>
              <a:t>http://vfdb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2" descr="http://www.vfdb.org/templates/massarbeit/images/logo.jpg"/>
          <p:cNvPicPr/>
          <p:nvPr/>
        </p:nvPicPr>
        <p:blipFill>
          <a:blip r:embed="rId1"/>
          <a:stretch/>
        </p:blipFill>
        <p:spPr>
          <a:xfrm>
            <a:off x="5867280" y="4292640"/>
            <a:ext cx="265428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2067120" cy="38192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 Aktivitäten des OV München-Sü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440" y="1980720"/>
            <a:ext cx="561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V-Abend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http://www.darc.de/distrikte/c/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Treffen mit langjährigen Funkamateur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comer“-R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auf 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Relais DB0ULR 70cm, München-Sü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145,300 MHz (simplex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eldday / Ausbildungscontest im 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Zorneding, voraussicht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nteres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6" descr="Funk- und Schlafzelt auf dem Fieldday"/>
          <p:cNvPicPr/>
          <p:nvPr/>
        </p:nvPicPr>
        <p:blipFill>
          <a:blip r:embed="rId2"/>
          <a:stretch/>
        </p:blipFill>
        <p:spPr>
          <a:xfrm>
            <a:off x="4211640" y="4797360"/>
            <a:ext cx="1584360" cy="11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5398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wcomer Runde DB0U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440" y="1980720"/>
            <a:ext cx="561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ewcomer Runde DB0ULR (ab Mai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Geräte – Anschaffung von 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3-4 Leihgerä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 OV München-Süd möglic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„Newcomer“-Runde auf Relais DB0ULR 70cm, München-Süd, z.B. mittwochab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 DB0ULR 70 c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0ULR | JN58SB | 439,325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431,725 | Muenchen-Solln |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123,0 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Interesse -&gt; Teilnehmer? Ema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1" descr="C:\Users\user\AppData\Local\Microsoft\Windows\Temporary Internet Files\Content.IE5\OIWU05FN\atencion[1].png"/>
          <p:cNvPicPr/>
          <p:nvPr/>
        </p:nvPicPr>
        <p:blipFill>
          <a:blip r:embed="rId1"/>
          <a:stretch/>
        </p:blipFill>
        <p:spPr>
          <a:xfrm>
            <a:off x="5435640" y="5084640"/>
            <a:ext cx="415800" cy="363600"/>
          </a:xfrm>
          <a:prstGeom prst="rect">
            <a:avLst/>
          </a:prstGeom>
          <a:ln w="0">
            <a:noFill/>
          </a:ln>
        </p:spPr>
      </p:pic>
      <p:sp>
        <p:nvSpPr>
          <p:cNvPr id="552" name="Textfeld 11"/>
          <p:cNvSpPr/>
          <p:nvPr/>
        </p:nvSpPr>
        <p:spPr>
          <a:xfrm>
            <a:off x="6804000" y="5487840"/>
            <a:ext cx="234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aoFeng Mark II GT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Quelle: </a:t>
            </a:r>
            <a:r>
              <a:rPr b="1" lang="de-DE" sz="1200" spc="-1" strike="noStrike">
                <a:solidFill>
                  <a:srgbClr val="3333cc"/>
                </a:solidFill>
                <a:latin typeface="Times New Roman"/>
              </a:rPr>
              <a:t>amazon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aket (Mic, Kabel): 54,50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5 Stück: 42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8" descr=""/>
          <p:cNvPicPr/>
          <p:nvPr/>
        </p:nvPicPr>
        <p:blipFill>
          <a:blip r:embed="rId2"/>
          <a:stretch/>
        </p:blipFill>
        <p:spPr>
          <a:xfrm>
            <a:off x="6724800" y="1700280"/>
            <a:ext cx="2239920" cy="3744720"/>
          </a:xfrm>
          <a:prstGeom prst="rect">
            <a:avLst/>
          </a:prstGeom>
          <a:ln w="0">
            <a:noFill/>
          </a:ln>
        </p:spPr>
      </p:pic>
      <p:sp>
        <p:nvSpPr>
          <p:cNvPr id="554" name="Inhaltsplatzhalter 2"/>
          <p:cNvSpPr/>
          <p:nvPr/>
        </p:nvSpPr>
        <p:spPr>
          <a:xfrm>
            <a:off x="6588000" y="1557360"/>
            <a:ext cx="2376720" cy="4967280"/>
          </a:xfrm>
          <a:prstGeom prst="rect">
            <a:avLst/>
          </a:prstGeom>
          <a:solidFill>
            <a:srgbClr val="bfbfb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http://ecx.images-amazon.com/images/I/6143zNrnArL._SL1000_.jpg"/>
          <p:cNvPicPr/>
          <p:nvPr/>
        </p:nvPicPr>
        <p:blipFill>
          <a:blip r:embed="rId1"/>
          <a:stretch/>
        </p:blipFill>
        <p:spPr>
          <a:xfrm>
            <a:off x="250920" y="1197000"/>
            <a:ext cx="5319720" cy="5319720"/>
          </a:xfrm>
          <a:prstGeom prst="rect">
            <a:avLst/>
          </a:prstGeom>
          <a:ln w="0">
            <a:noFill/>
          </a:ln>
        </p:spPr>
      </p:pic>
      <p:sp>
        <p:nvSpPr>
          <p:cNvPr id="55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2916360" y="1267920"/>
            <a:ext cx="4535280" cy="513252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oFeng Mark II GT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k II -&gt; bessere Antenne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ket (Mic, Kabel):  54,50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 Stück mit Mikro:    42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INCO DJ-500-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98,00 € + Ver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738440" cy="37386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9800" y="1295280"/>
            <a:ext cx="6334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 Einsteigergerä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C:\Users\user\Documents\Eigene Dateien\Amateurfunk\IARU-Region-1 CW Fieldday 2014\fb\20140607_123418__tuning_kl.jpg"/>
          <p:cNvPicPr/>
          <p:nvPr/>
        </p:nvPicPr>
        <p:blipFill>
          <a:blip r:embed="rId1"/>
          <a:stretch/>
        </p:blipFill>
        <p:spPr>
          <a:xfrm>
            <a:off x="3419640" y="2060640"/>
            <a:ext cx="5653080" cy="42386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ieldday / Ausbildungs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0720"/>
            <a:ext cx="2733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en abseits 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omver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W-Geräte, Zubehö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ennen, usw. werden aufgeba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bination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ungs-AR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mateurfunkp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te Mai, Zorne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nteres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Kontrollposten an einem Fuchsjagdsender (Foto: Rainer, DL5NBZ)"/>
          <p:cNvPicPr/>
          <p:nvPr/>
        </p:nvPicPr>
        <p:blipFill>
          <a:blip r:embed="rId2"/>
          <a:stretch/>
        </p:blipFill>
        <p:spPr>
          <a:xfrm>
            <a:off x="7629480" y="1341360"/>
            <a:ext cx="15145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ganisatoris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tzter Termin, ab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5" descr="C:\Users\user\AppData\Local\Microsoft\Windows\Temporary Internet Files\Content.IE5\F6UFNO32\faccina-confusa-300x295[1].jpg"/>
          <p:cNvPicPr/>
          <p:nvPr/>
        </p:nvPicPr>
        <p:blipFill>
          <a:blip r:embed="rId1"/>
          <a:stretch/>
        </p:blipFill>
        <p:spPr>
          <a:xfrm>
            <a:off x="4932360" y="1881360"/>
            <a:ext cx="21607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C:\Users\user\Documents\Eigene Dateien\Amateurfunk\IARU-Region-1 CW Fieldday 2014\fb\20140607_195217_kl.jpg"/>
          <p:cNvPicPr/>
          <p:nvPr/>
        </p:nvPicPr>
        <p:blipFill>
          <a:blip r:embed="rId1"/>
          <a:stretch/>
        </p:blipFill>
        <p:spPr>
          <a:xfrm>
            <a:off x="1260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C:\Users\user\Documents\Eigene Dateien\Amateurfunk\IARU-Region-1 CW Fieldday 2014\fb\20140607_160601__cq_world_kl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56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2" descr="C:\Users\user\Documents\Eigene Dateien\Amateurfunk\IARU-Region-1 CW Fieldday 2014\fb\20140607_133925__jamjamajam_k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ieldday / Ausbildungs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>
            <a:off x="476280" y="1197000"/>
            <a:ext cx="8343720" cy="5040360"/>
          </a:xfrm>
          <a:prstGeom prst="rect">
            <a:avLst/>
          </a:prstGeom>
          <a:ln w="0">
            <a:noFill/>
          </a:ln>
        </p:spPr>
      </p:pic>
      <p:sp>
        <p:nvSpPr>
          <p:cNvPr id="575" name="Textfeld 6"/>
          <p:cNvSpPr/>
          <p:nvPr/>
        </p:nvSpPr>
        <p:spPr>
          <a:xfrm>
            <a:off x="3957480" y="630864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lle: Zorneding in Openstreetmap  CC-BY-SA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3" descr="C:\Users\user\Documents\Eigene Dateien\Allround-Site ++ 09-08-12\Webseite - DL1RSF+++\web-content\images\atvsender.jpg"/>
          <p:cNvPicPr/>
          <p:nvPr/>
        </p:nvPicPr>
        <p:blipFill>
          <a:blip r:embed="rId1"/>
          <a:stretch/>
        </p:blipFill>
        <p:spPr>
          <a:xfrm>
            <a:off x="324000" y="260280"/>
            <a:ext cx="2160360" cy="15670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agsre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980720"/>
            <a:ext cx="7989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ell an Newcomer ausgericht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ragsreihe: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ie werde ich aktiv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ATV / D-AT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mateurfunkferns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ARD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mateurfunkpe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D-Star / DM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mateurfunk-Digitalfunk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ht bereits fe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HAM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Highspeed Amateurradio Multimedi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atelli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QSOs: Die wichtigsten Infos für den Erstkonta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Kunst des 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Hellschreib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ST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andere digitale Betriebs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6" descr="I:\AFu Ausbildung\ao-7.gif"/>
          <p:cNvPicPr/>
          <p:nvPr/>
        </p:nvPicPr>
        <p:blipFill>
          <a:blip r:embed="rId2"/>
          <a:stretch/>
        </p:blipFill>
        <p:spPr>
          <a:xfrm>
            <a:off x="5364000" y="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2085840" cy="226692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agsreihe – Erster Ter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440" y="4581360"/>
            <a:ext cx="561492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 in die Amateurfunk-Digitalfunk Netzwerke (D-Star und DMR)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m OV-Abend von C18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am 12.05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19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alf, DL2MRB, Holger, DL9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http://shop.boger.de/components/com_virtuemart/shop_image/product/ID_5100E_2m_70cm_542181338398b.jpg"/>
          <p:cNvPicPr/>
          <p:nvPr/>
        </p:nvPicPr>
        <p:blipFill>
          <a:blip r:embed="rId2"/>
          <a:stretch/>
        </p:blipFill>
        <p:spPr>
          <a:xfrm>
            <a:off x="250920" y="1112760"/>
            <a:ext cx="8599320" cy="33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Inhaltsplatzhalter 2"/>
          <p:cNvSpPr/>
          <p:nvPr/>
        </p:nvSpPr>
        <p:spPr>
          <a:xfrm>
            <a:off x="684360" y="1989000"/>
            <a:ext cx="5686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ma 2015: Raumstationen, Satelliten, Reflexionen: Amateurfunkkontakte in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en für Kinder und Jugendliche mit HAM RALLYE und Jugendzeltl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- und Weiterbildung von Funkamat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6. Bodenseetreffen mit Vorträgen und zahlreichen Tre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llelveranstaltung MAKER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Messe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HAM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4797360"/>
            <a:ext cx="568656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 Ausstelle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000 Besucher (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ue Messe Friedrichshaf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26. – 28. Juni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http://www.hamradio-friedrichshafen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hteck 6"/>
          <p:cNvSpPr/>
          <p:nvPr/>
        </p:nvSpPr>
        <p:spPr>
          <a:xfrm>
            <a:off x="5508720" y="5157720"/>
            <a:ext cx="3456000" cy="13136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+) Software Defined Radi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Academy / GNU Radi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http://www.sdra-2015.d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" descr="http://www.hamradio-friedrichshafen.de/ham-wGlobal/wGlobal/layout/images/logo@2x.png"/>
          <p:cNvPicPr/>
          <p:nvPr/>
        </p:nvPicPr>
        <p:blipFill>
          <a:blip r:embed="rId1"/>
          <a:stretch/>
        </p:blipFill>
        <p:spPr>
          <a:xfrm>
            <a:off x="7093080" y="1413000"/>
            <a:ext cx="1582560" cy="15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el 1"/>
          <p:cNvSpPr/>
          <p:nvPr/>
        </p:nvSpPr>
        <p:spPr>
          <a:xfrm>
            <a:off x="685800" y="1554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 sonst no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339640" y="2933280"/>
            <a:ext cx="611820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Prüfungsinfo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Vortragsprogramm / Weitere Aktivit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tzt wird es er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einer von drei Tei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 34 Fragen / 1h / T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line: </a:t>
            </a:r>
            <a:r>
              <a:rPr b="0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http://afup.a36.de/pruefungen/klasse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uefungsbögen: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ff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0 % -&gt; fit für die Prüfung (Klasse E: 28 Fra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r im letzten Teil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7" descr="C:\Users\user\Documents\Eigene Dateien\Amateurfunk\1528582_629114573792879_1345512851_n.jpg"/>
          <p:cNvPicPr/>
          <p:nvPr/>
        </p:nvPicPr>
        <p:blipFill>
          <a:blip r:embed="rId1"/>
          <a:stretch/>
        </p:blipFill>
        <p:spPr>
          <a:xfrm>
            <a:off x="611280" y="1052640"/>
            <a:ext cx="6667560" cy="441936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"/>
          <p:cNvSpPr/>
          <p:nvPr/>
        </p:nvSpPr>
        <p:spPr>
          <a:xfrm>
            <a:off x="0" y="1163520"/>
            <a:ext cx="8748720" cy="6098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Prüfung: Fr, 27. April 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feld 6"/>
          <p:cNvSpPr/>
          <p:nvPr/>
        </p:nvSpPr>
        <p:spPr>
          <a:xfrm>
            <a:off x="468360" y="5622840"/>
            <a:ext cx="8675640" cy="8251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Lucida Handwriting"/>
              </a:rPr>
              <a:t>Gute Vorbereitungsz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9" descr="C:\Users\user\AppData\Local\Microsoft\Windows\Temporary Internet Files\Content.IE5\OIWU05FN\MP900402266[1].jpg"/>
          <p:cNvPicPr/>
          <p:nvPr/>
        </p:nvPicPr>
        <p:blipFill>
          <a:blip r:embed="rId2"/>
          <a:stretch/>
        </p:blipFill>
        <p:spPr>
          <a:xfrm>
            <a:off x="7645320" y="2349360"/>
            <a:ext cx="1535040" cy="2303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C:\Users\user\AppData\Local\Microsoft\Windows\Temporary Internet Files\Content.IE5\OIWU05FN\MC900310816[1].wmf"/>
          <p:cNvPicPr/>
          <p:nvPr/>
        </p:nvPicPr>
        <p:blipFill>
          <a:blip r:embed="rId3"/>
          <a:stretch/>
        </p:blipFill>
        <p:spPr>
          <a:xfrm>
            <a:off x="7775640" y="2492280"/>
            <a:ext cx="13683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ritik / Vorschläge / F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edback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tel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vom Kurs erfa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bei Fra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ganisatoris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tzter Termin, ab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 wird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eitere Veranstaltungen / Aktivität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g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C:\Users\user\AppData\Local\Microsoft\Windows\Temporary Internet Files\Content.IE5\F6UFNO32\faccina-confusa-300x295[1].jpg"/>
          <p:cNvPicPr/>
          <p:nvPr/>
        </p:nvPicPr>
        <p:blipFill>
          <a:blip r:embed="rId1"/>
          <a:stretch/>
        </p:blipFill>
        <p:spPr>
          <a:xfrm>
            <a:off x="4932360" y="1881360"/>
            <a:ext cx="21607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itel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763640" y="3510000"/>
            <a:ext cx="66945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sin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ragsprogramm / Weitere Aktivit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in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ffe alle haben bereits die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Prüfungsanmeldung vor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 27. April 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läuft die Prüfung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in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ffe alle haben bereits die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Prüfungsanmeldung vor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 27. April 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ie läuft die Prüfung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5" descr="C:\Users\user\AppData\Local\Microsoft\Windows\Temporary Internet Files\Content.IE5\85HACXA2\mikrofon-fb8937ff[1].jpg"/>
          <p:cNvPicPr/>
          <p:nvPr/>
        </p:nvPicPr>
        <p:blipFill>
          <a:blip r:embed="rId1"/>
          <a:stretch/>
        </p:blipFill>
        <p:spPr>
          <a:xfrm>
            <a:off x="5796000" y="447660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395280" y="4457880"/>
            <a:ext cx="2876400" cy="19238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ffe alle haben bereits die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Prüfungsanmeldung vor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 27. April 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ie läuft die Prüfung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in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info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schenrechner: nicht programmierbar und ohne Textspeicher oder ähnliches. Smartphone geht n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ierender Kugelschreiber (besser zw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Schmierpapier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schnelle Sachverhalte oder Rechen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Lernunterlag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den Fall, dass ihr auf dem Weg zur Prüfung oder vor Ort nochmal schwierige Fragen lernen wo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Trinken, Ess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hr hab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ei Stunden für die Prüfung Z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Zwischendurch könnt ihr, wenn ihr das wollt, auch etwas trinken oder e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elle: 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http://www.funkwelle.com/amateurfunk/ablauf-amateurfunkpruefung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üfungsinfos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lbe Stunde vorher da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rteraum, andere Prüfli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sraum zum Begi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blau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Blatt Antwortbogen (3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Prüfungsfragenmappe wird ausgeteilt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gennumm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ba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kom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dere Bö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kreuz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 / B / C / D    „X“ „=„ oder neu kreu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k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m Ende ist die Formelsammlung (siehe Fragebogen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3:16:25Z</dcterms:created>
  <dc:creator>vtk2006; Dominik Bok</dc:creator>
  <dc:description/>
  <dc:language>en-US</dc:language>
  <cp:lastModifiedBy>user</cp:lastModifiedBy>
  <dcterms:modified xsi:type="dcterms:W3CDTF">2015-03-18T19:05:32Z</dcterms:modified>
  <cp:revision>701</cp:revision>
  <dc:subject/>
  <dc:title>PowerPoint-Präsentation</dc:title>
</cp:coreProperties>
</file>